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99ED-16E7-4AF5-8E44-2458E832D4D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3930-F6FD-4878-B053-94F8A998C786}" type="slidenum">
              <a:rPr b="0" lang="zh-TW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315-E078-4BFA-9A82-9AA86CBC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932-14F2-47B6-AF33-B77142AD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E09-003B-4117-BC8D-AE96571A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251-3804-48E2-8FA4-054A3F5F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F0DA-5041-48A0-BCD2-AC167DAB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94A-F910-4F8F-B31F-D071F7E7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F79A-BE42-481C-BA0D-771A26F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5085-E6D8-4566-8D5A-B8F2718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A1FC-DC56-4C42-A5A2-6DC5C3F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319E-D44A-4B7C-9B9C-7ED32C1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D0B4-3166-4472-8E00-68952D21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12C-67B0-41C7-BC25-7477040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D05F-C351-4058-B562-04620E1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8290-8057-4DB4-A9F6-10CAC54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5CB-A677-4A3D-82FB-9B692DFD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4D7B-DA4C-4EF0-817F-F4DF8367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7C0D-D415-4630-B926-CABE263E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0592-E26E-4952-9C62-6238FCE1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891E-0C9D-4497-A5D1-9365C8F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6A3E-A50E-476B-B8C4-15F00B1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5788-663C-4268-A944-B3E0B24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DAC0-6672-4CDF-901F-89B1D9D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21D-F708-4A7D-82D9-2F5612D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E7DA-DAAD-4353-97EC-3E38CF2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9263-B345-4CBB-83F5-F74F93C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9097-CCFA-4FFF-881B-BB413D6F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C89C-F12F-4F02-B6DF-AE165D5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7C14-EFE4-4798-AE82-0B9B729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AA1A-4A26-44A6-8DE1-AF8C6380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8BE4-5F79-4F26-91BA-3C245071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D942-B784-4E6B-A07F-4E8CF210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732F-24C9-4C5D-A76B-BD49D25F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D75E-AC62-4C4E-80B5-2DCE5FC7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FB6-A101-46F7-B26D-EC2E703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9961-E90C-4FD6-A921-6B3EB58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A341-993B-4FE0-A594-185AD2E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161F-2573-40A9-9E2F-BF193D5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FDD1-942E-4B1C-9BE9-E2D44FC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DC96-E0C8-4C50-A1BE-007CA718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6720-A418-429F-9BC7-D436734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43CB-61C2-481E-8E65-BAFCC8B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5FB8-85E2-4222-8D7F-51080EE2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BC75-5DF0-4405-94F9-29FF755C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9556-AAE9-482A-87E1-029111B3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19F-A974-463C-BA59-A9F995F5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5D73-92E6-48CB-836F-C8C4D2E8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86A5-0786-492E-9BA9-285F667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FD3D-FFDA-4B1C-A4E0-21AED89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5FA3-BB45-403F-8C9F-3766D03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A2A05-ECF7-4148-9A6B-547866C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3335-6FA6-41AD-A418-E470DCD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5F81-CB41-4A4A-A375-5D73AF0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139E-DA18-4A22-BCD3-929F308C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F216-C73B-4E78-A828-6EC1CA9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D123-B949-4CE0-BD5A-DAC13245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E6B-CB40-44D7-9E36-7B37F89B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8DA9-A6EC-4E71-A63A-7B3B1A85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9101-247A-4529-AE77-6EE479F0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771E-DA15-424A-BD7E-0BED8D4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B44E5-6F40-4271-8B4A-496805BE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24BE-F0CC-4780-8A04-8182C2C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C072-87DE-4763-BF0A-2435B27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DBEF-B51E-4266-A32F-12A1D009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823D-1EA7-4F10-A9C5-5F74E18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A568-81B3-4E9D-8D1E-06BC4CB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D327-DDBA-4671-A7ED-38ACE60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117-EF4F-48E3-A0E0-5FB0C33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C4BE-290A-4DB8-A8E5-E0FDCB81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64E0-D4CE-4789-AA67-69E31799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B4D4-D0AC-4684-8F75-1FEE27F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B12C-47E7-4BAD-B3A0-7259DADE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DE33-3E31-4EC7-A59F-10A82FE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124C-B267-430A-83E6-4B49D70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4A4E8-CCD2-44AC-A7AF-820EE5B6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E9FC-10D5-49AA-B0D8-504125D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2AC4-09DF-45B7-967A-5D33E531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1091-965D-4777-8D94-ECC5740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0E2-5592-41AA-86F1-074467C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8B2DD-A69A-4B43-8242-E75793E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EEFD-347F-4D43-917D-947F2210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C88F-E8DA-4A98-AF7A-BD07F0B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B168-51F2-4CBC-8876-EFEF78E8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1B45A-EBAA-4C39-B2EA-851B12F9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9BF-852D-4F7F-AC3D-1219490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8D8-828C-485B-A2C3-D125C94DBD3D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7851-4D7C-4680-84C4-C54FE640F0EB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AB32-394C-4ED9-957B-708E9D49579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B60-9A75-4B14-8947-3F2CD5F4CC4D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72F-C420-4D07-BBB4-AE99A018AF9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3F7-CE2A-4EC4-86EF-8D86A21F623A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DD1-FAB7-4E1D-8493-8EFB6BE8541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要點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新北市立金山高中（以下簡稱本校）學生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事宜，以鼓勵學生優良表現、引導學生身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健全發展、提升教育品質及促進校園友善文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並依國民教育法第二十條之一第一項之規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特訂定本要點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一、受獎懲學生或其法定代理人或家長對於所受獎懲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認為有違法或不當致其權益受損害者，得依新北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市高級中等以下學校學生申訴評議委員會設置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評議要點之規定，應於獎懲措施之次日起二十日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內，以書面或言詞向學校申評會提出申訴。         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6919560" y="1882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附表五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4000" y="189000"/>
          <a:ext cx="8569080" cy="6226200"/>
        </p:xfrm>
        <a:graphic>
          <a:graphicData uri="http://schemas.openxmlformats.org/drawingml/2006/table">
            <a:tbl>
              <a:tblPr/>
              <a:tblGrid>
                <a:gridCol w="796680"/>
                <a:gridCol w="1398600"/>
                <a:gridCol w="1650960"/>
                <a:gridCol w="1024200"/>
                <a:gridCol w="1898640"/>
                <a:gridCol w="1800000"/>
              </a:tblGrid>
              <a:tr h="374400">
                <a:tc gridSpan="6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北市立金山高中學生重大獎懲委員會人員名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職 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編組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備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任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林美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鄭敬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執行秘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周桂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金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輔組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羅志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游靜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組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龔振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家長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謝賜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會會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魯學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吳筱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報完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請指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5920"/>
            <a:ext cx="8496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學生之獎勵與懲罰，應依下列原則為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一）平等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非有正當理由，不得為差別待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二）比例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應有助於目的之達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有多種同樣能達成目的之措施時，應選擇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權益損害較少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所造成之損害不得與欲達成目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利益顯失均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三）個別差異原則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學生之獎懲應審酌下列因素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動機與目的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手段與行為時所受之外在情境影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785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違反義務之程度與所生之危險或損害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人格特質、身心健康狀況、生活狀況與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家庭狀況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品行、智識程度與平時表現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後之態度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其他足以影響行為發生之因素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學校為鼓勵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。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四、對於學生情節輕微之不當行為，學校應予糾正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採取適當之輔導與管教措施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採取前項措施無效果時，得視學生違規情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依輔導管教目的所為之其他適當懲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包含以下方式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家長或監護人帶回管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輔導安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交付司法機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為前項各款之懲罰措施，應列舉事實敘明理由，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通知法定代理人或家長，小過以上懲罰措施之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知，並應以書面為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五、本校設立學生獎懲委員會（以下簡稱獎懲會），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任務如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訂定或修正學生獎懲實施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審議學生大功、大過及特殊獎懲案件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研擬或審議其他有關學生獎懲事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置委員七人至十五人，單一性別不得少於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 之一。但學校任一性別教師人數少於委員總數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之一者，不在此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均為無給職，由校長就下列人員聘任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行政代表不得超過全體委員二分之一，其中學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務主任為當然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教師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家長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學生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委員，任期為一年，並不得兼任學生申訴評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會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代表應優先自學生自治組織成員中遴選，並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先取得法定代理人或家長之同意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因故出缺時，校長依本點第二項規定補聘派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，其任期至原任期屆滿之日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應訂定學生獎懲規定，經學校校務會議通過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實施，並報新北市政府教育局備查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9280" y="0"/>
            <a:ext cx="87854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六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會議由學務（校務）主任召集，生輔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教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長為執行秘書。應有全體委員三分之二以上出席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出席委員二分之一以上同意，始得決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開會時，委員應親自出席，不得委託他人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理出席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處理獎懲案件，關於委員之迴避，依行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政程序法第三十二條及第三十三條規定辦理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七、獎懲會審議學生獎懲案件，應秉公正、公平及不公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開原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重大懲處案件應於開會前三日通知議處單位、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及其法定代理人或家長到場陳述意見並得以書面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會議之決議，以無記名投票表決方式為之；其決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經過及個別委員意見應予保密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八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嘉獎、警告、小功、小過之獎懲措施應簽會導師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後，由學務處核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大功、大過及依輔導管教目的所為之其他適當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措施，應由學務處簽會導師及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提供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見，經獎懲會討論議決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獎懲決議應作成決定書，記載事實、理由、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依據及結果，報請校長核定，後執行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但大過以上者，應以書面通知受懲罰學生及其法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理人或家長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第三項之獎懲決議應經校長核定後執行，校長對獎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決議有不同意見時，應敘明理由退回獎懲會覆議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如經獎懲會全體委員三分之二以上出席，出席委員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二分之一以上決議維持原獎懲措施時，校長得敘明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理由後逕為核定並交付執行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九、本要點之獎懲事項，學校教職員工均有提供相關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料之責任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、為鼓勵學生改過遷善，學校應訂定改過及銷過相關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已改過及銷過者，應於學生之懲罰紀錄加註銷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字樣，其紀錄不登載於學生成績通知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29:49Z</dcterms:modified>
  <cp:revision>28</cp:revision>
  <dc:subject/>
  <dc:title>新北市立金山高中101年校務會議學務處提案1─教師輔導與管教學生辦法</dc:title>
</cp:coreProperties>
</file>